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608-3395-4F9A-A804-FC683BA5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D51-80DD-48D1-B892-6044CAA2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DEE-6959-408F-8C70-099F7AD6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D79-BC86-4766-BDDD-C4055A2E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FBA-2847-4777-8F4B-E186C783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3C95-12FF-48DF-91E2-659F85C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A32-CB11-4EF9-922B-B1A71594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473D-4425-4C30-AB5D-1B9C6C9C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CC5-7CF2-4620-B5FC-E8B6D55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A44-9A6C-4A3D-9D31-1CA0B6E9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178-1F21-4E69-8B7E-42C9F8D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22C-8E0B-4C5E-A47B-8FB27B24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619-2848-46F5-821B-BE74079B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pl.hp.com/research/info_theory/AlbertWeb/fullsize/B)%2520Corrupted%2520by%2520random%2520noise,%2520bit%2520error%2520rate%253D0.020.gif&amp;imgrefurl=http://www.hpl.hp.com/research/info_theory/AlbertWeb/pages/B)%2520Corrupted%2520by%2520random%2520noise,%2520bit%2520error%2520rate%253D0.020.htm&amp;usg=__lqhlEcR3mr0hSzvKLIrJWVRfPAw=&amp;h=1160&amp;w=896&amp;sz=73&amp;hl=en&amp;start=7&amp;um=1&amp;itbs=1&amp;tbnid=n5NaFoW7RcgE9M:&amp;tbnh=150&amp;tbnw=116&amp;prev=/images%3Fq%3Drandom%26um%3D1%26hl%3Den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janeqpublic.files.wordpress.com/2009/04/apple.jpg&amp;imgrefurl=http://janeqpublic.wordpress.com/2009/04/07/apple-kool-aid/&amp;usg=__8BJhEack2qf0WVcroNBnHl9Ty-c=&amp;h=1183&amp;w=1095&amp;sz=58&amp;hl=en&amp;start=14&amp;um=1&amp;itbs=1&amp;tbnid=OgJevYDuabCM4M:&amp;tbnh=150&amp;tbnw=139&amp;prev=/images%3Fq%3Dapple%26um%3D1%26hl%3Den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eescottwrite.files.wordpress.com/2009/07/four-leaf_clover2.jpg&amp;imgrefurl=http://seescottwrite.wordpress.com/2009/07/&amp;usg=__pXT9qXRzGUiOS-1-OnRjzEFVLbE=&amp;h=350&amp;w=329&amp;sz=32&amp;hl=en&amp;start=3&amp;um=1&amp;itbs=1&amp;tbnid=xz5xmdOq_v6a8M:&amp;tbnh=120&amp;tbnw=113&amp;prev=/images%3Fq%3Dfour%2Bleaf%2Bclover%26um%3D1%26hl%3Den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ontent.authorstream.com/images/Demian-9666-Cool-bikes-sexy-crazy-coolbikes-ppt-powerpoint-118_88.jpg&amp;imgrefurl=http://www.authorstream.com/tag/Cool&amp;usg=__TXT1-Vqnaakccanx0wk3ZtuxIVo=&amp;h=375&amp;w=500&amp;sz=25&amp;hl=en&amp;start=5&amp;um=1&amp;itbs=1&amp;tbnid=WC7_R6sq4ILtwM:&amp;tbnh=98&amp;tbnw=130&amp;prev=/images%3Fq%3Dcool%2Bpics%26um%3D1%26hl%3Den%26sa%3DN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partuk.com/g/l/lgfp1206%2Bsnoopy-is-joe-cool-charles-schulzs-peanuts-poster.jpg&amp;imgrefurl=http://www.popartuk.com/tv/peanuts/snoopy-is-joe-cool-fp1206-poster.asp&amp;usg=__CCiDXeXyGv8xBFkUvAJouURgerc=&amp;h=452&amp;w=320&amp;sz=20&amp;hl=en&amp;start=15&amp;um=1&amp;itbs=1&amp;tbnid=2d7vHIdlHB-suM:&amp;tbnh=127&amp;tbnw=90&amp;prev=/images%3Fq%3Dcool%2Bpics%26um%3D1%26hl%3Den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ear.msu.edu/dennie/clipart/cool.gif&amp;imgrefurl=http://clear.msu.edu/dennie/clipart/&amp;usg=__dWv2jhaI0MqAduGvFrNH2hTGcLQ=&amp;h=453&amp;w=800&amp;sz=10&amp;hl=en&amp;start=38&amp;um=1&amp;itbs=1&amp;tbnid=dNiFZhMk5EYH3M:&amp;tbnh=81&amp;tbnw=143&amp;prev=/images%3Fq%3Dcool%2Bpics%26start%3D20%26um%3D1%26hl%3Den%26sa%3DN%26ndsp%3D20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2fm.rte.ie/blogs/colm_jim_jims_blogggggg/spongebob.jpg&amp;imgrefurl=http://2fm.rte.ie/blogs/colm_jim_jims_blogggggg/2009/09/spongebob-superfans-fair-citys-orla-and-our-recommends.html&amp;usg=__4t2R9vMRIA3eJOz2ygVu9B_WcE8=&amp;h=315&amp;w=306&amp;sz=47&amp;hl=en&amp;start=2&amp;um=1&amp;itbs=1&amp;tbnid=KfpP0Wxte3VwMM:&amp;tbnh=117&amp;tbnw=114&amp;prev=/images%3Fq%3Dspongebob%26um%3D1%26hl%3Den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hy.bris.ac.uk/people/berry_mv/pictures/random-phases.jpg&amp;imgrefurl=http://www.phy.bris.ac.uk/people/berry_mv/gallery.html&amp;usg=__Her8hnT3_5Bk-UhVcQ5iXQIy__c=&amp;h=1394&amp;w=1400&amp;sz=264&amp;hl=en&amp;start=3&amp;um=1&amp;itbs=1&amp;tbnid=XKWbY8rzuIy0uM:&amp;tbnh=149&amp;tbnw=150&amp;prev=/images%3Fq%3Drandom%26um%3D1%26hl%3Den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transport.com/blogs/big-lorry-blog/optimusprime.jpg&amp;imgrefurl=http://www.roadtransport.com/blogs/big-lorry-blog/2008/01/transformers-optimus-prime-and-eddie-stobart-on-biglorryblog-surely-theres-no-connectionor-is-there.html&amp;usg=___sG8cQfuxEcS5PtuCKpnzB5B9a4=&amp;h=410&amp;w=320&amp;sz=32&amp;hl=en&amp;start=9&amp;um=1&amp;itbs=1&amp;tbnid=4N0SNPMAlamVQM:&amp;tbnh=125&amp;tbnw=98&amp;prev=/images%3Fq%3Doptimus%2Bprime%26um%3D1%26hl%3Den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zuserver2.star.ucl.ac.uk/~idh/apod/image/9809/saturn_not.jpg&amp;imgrefurl=http://zuserver2.star.ucl.ac.uk/~idh/apod/ap980902.html&amp;usg=__E9FS8cQDmzQ5NMPWK5gWvau5F44=&amp;h=318&amp;w=481&amp;sz=9&amp;hl=en&amp;start=18&amp;um=1&amp;itbs=1&amp;tbnid=6eBpQvCCq7vamM:&amp;tbnh=85&amp;tbnw=129&amp;prev=/images%3Fq%3Dsaturn%26um%3D1%26hl%3Den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99"/>
                </a:solidFill>
                <a:latin typeface="FirstGrader"/>
              </a:rPr>
              <a:t>UNIT 12 REVIEW</a:t>
            </a:r>
            <a:br>
              <a:rPr sz="6600"/>
            </a:br>
            <a:br>
              <a:rPr sz="5400"/>
            </a:br>
            <a:r>
              <a:rPr b="1" lang="en-US" sz="5400" spc="-1" strike="noStrike">
                <a:solidFill>
                  <a:srgbClr val="ff3399"/>
                </a:solidFill>
                <a:latin typeface="FirstGrader"/>
              </a:rPr>
              <a:t>You Need: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Marker Board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Marker &amp; Paper Towel</a:t>
            </a:r>
            <a:br>
              <a:rPr sz="5400"/>
            </a:br>
            <a:r>
              <a:rPr b="0" lang="en-US" sz="5400" spc="-1" strike="noStrike">
                <a:solidFill>
                  <a:srgbClr val="ff3399"/>
                </a:solidFill>
                <a:latin typeface="FirstGrader"/>
              </a:rPr>
              <a:t>Calcul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the word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equilib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eversible re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mpletion rea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3276720"/>
            <a:ext cx="8076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c describes equilibrium because the reaction does not stop.  The forward and reverse reactions continue at equal r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reversible reaction can form products and then reform react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pletion reaction can only form products and forms a gas or a precipi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)%2520Corrupted%2520by%2520random%2520noise,%2520bit%2520error%2520rate%253D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0600" y="1066680"/>
            <a:ext cx="200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ystem is at ________________________ , it will stay that way until something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Le Chatelier’s Princi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ree examples of stresses that can change a system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52280" y="4357800"/>
            <a:ext cx="8991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action at equilibrium is disturbed, it will shift to eliminate the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emperature, concentration, or pressure/volume (only for gas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p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3048120"/>
            <a:ext cx="16066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You can tell if a reaction is endothermic or exothermic by looking at the equation.  If heat is on the reactant side, the reaction is ________________.  If heat is on the product side, the reaction is ________________.  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Determine if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)    2NO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  <a:ea typeface="Arial"/>
              </a:rPr>
              <a:t>↔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+ 58.8 J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b)  2AgCl + energy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  <a:ea typeface="Arial"/>
              </a:rPr>
              <a:t>↔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2Ag + Cl</a:t>
            </a:r>
            <a:r>
              <a:rPr b="0" lang="en-US" sz="2400" spc="-1" strike="noStrike" baseline="-25000">
                <a:solidFill>
                  <a:srgbClr val="66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What direction with the system shift if the temperature in “a” is raised? 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How could you make reaction “b” produce more product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dd energy or remove ener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83480" y="4724280"/>
            <a:ext cx="494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nswers:  endothermic, exothermic</a:t>
            </a:r>
            <a:br>
              <a:rPr sz="2400"/>
            </a:b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)  exothermic     b)  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Shif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Ad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four-leaf_clover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7200" y="4800600"/>
            <a:ext cx="1936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n equilibrium mixture is subjected to a decreased pressure, it will shift to the side with 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80880" y="441972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 More M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Pressure = Increase Volume = Shift to Side with MOST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kansas-jayhawks"/>
          <p:cNvPicPr/>
          <p:nvPr/>
        </p:nvPicPr>
        <p:blipFill>
          <a:blip r:embed="rId1"/>
          <a:stretch/>
        </p:blipFill>
        <p:spPr>
          <a:xfrm>
            <a:off x="6705720" y="4334040"/>
            <a:ext cx="24382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nerg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Le Chatelier’s Principle, what direction will the system above shift if the following stresses are applied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.  Lower Tempera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Increas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(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Decreas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Increase Press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Increas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388620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(to replace heat lost on right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to decrease [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to replac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(Increase P = Decrease V so shift to side with less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(Increase V so shift to side with more m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Ksp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ad compound below i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bl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6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= Pb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8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3809880"/>
            <a:ext cx="86108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bility Produc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p describes the solubility (ability to dissolve) of slightly soluble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bCr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has the smallest K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ereal"/>
          <p:cNvPicPr/>
          <p:nvPr/>
        </p:nvPicPr>
        <p:blipFill>
          <a:blip r:embed="rId1"/>
          <a:stretch/>
        </p:blipFill>
        <p:spPr>
          <a:xfrm>
            <a:off x="6629400" y="1828800"/>
            <a:ext cx="25146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304920" y="990720"/>
            <a:ext cx="84582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ilibrium expression for the following re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HCl(g)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47920" y="4343400"/>
            <a:ext cx="68738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 Keq =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[Cl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3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[H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3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HCl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[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Demian-9666-Cool-bikes-sexy-crazy-coolbikes-ppt-powerpoint-118_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133960"/>
            <a:ext cx="22860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equilibrium expression for the following re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l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233720" y="3395520"/>
            <a:ext cx="288576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q =   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lgfp1206%2Bsnoopy-is-joe-cool-charles-schulzs-peanuts-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809880"/>
            <a:ext cx="1774800" cy="2505240"/>
          </a:xfrm>
          <a:prstGeom prst="rect">
            <a:avLst/>
          </a:prstGeom>
          <a:ln w="0">
            <a:noFill/>
          </a:ln>
        </p:spPr>
      </p:pic>
      <p:sp>
        <p:nvSpPr>
          <p:cNvPr id="49" name="Line 9"/>
          <p:cNvSpPr/>
          <p:nvPr/>
        </p:nvSpPr>
        <p:spPr>
          <a:xfrm>
            <a:off x="2743200" y="457200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362320" y="228600"/>
            <a:ext cx="129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the equilibrium expressio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the following rea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28600" y="1752480"/>
            <a:ext cx="8686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(s) + 2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2 Ag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057400" y="2819520"/>
            <a:ext cx="51055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q =  [Cu(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[AgN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c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295280"/>
          </a:xfrm>
          <a:prstGeom prst="rect">
            <a:avLst/>
          </a:prstGeom>
          <a:ln w="0">
            <a:noFill/>
          </a:ln>
        </p:spPr>
      </p:pic>
      <p:sp>
        <p:nvSpPr>
          <p:cNvPr id="54" name="Line 9"/>
          <p:cNvSpPr/>
          <p:nvPr/>
        </p:nvSpPr>
        <p:spPr>
          <a:xfrm>
            <a:off x="3429000" y="4572000"/>
            <a:ext cx="24382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+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[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f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0.01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 Keq = 3,6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0.08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,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]= 0.060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 reactants or products favored at equilibri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3733920"/>
            <a:ext cx="8839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Keq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[CO</a:t>
            </a:r>
            <a:r>
              <a:rPr b="0" lang="en-US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] [H</a:t>
            </a:r>
            <a:r>
              <a:rPr b="0" lang="en-US" sz="2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]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[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620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0.0824)(0.0603)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 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54.3)x</a:t>
            </a:r>
            <a:r>
              <a:rPr b="0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0.000299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x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0.00005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0.0150)(x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54.3            5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= 0.00235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ants are fav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52120" y="3049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 the equilibrium expression &amp; calculate [C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] for this rea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(g) + 2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(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CO]=0.025M, [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=0.080M, Keq = 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4038480"/>
            <a:ext cx="914400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q = 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[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]:  394 =           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= 0.06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025)(0.08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pongeb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57400"/>
            <a:ext cx="1633680" cy="167652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4495680" y="5105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3048120" y="60199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Ke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 1.00M, [P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3.16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, [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7.1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reactants or products favored at equilibr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ange the temperature, would the Keq be the s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0" y="510552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s:  Keq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[PC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[C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3.16x10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(7.18x10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-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(1.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ants are favored because Keq is less than 1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because temperature affects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random-pha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3520"/>
            <a:ext cx="24386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types of changes cause a reaction to go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reaction does not go to completion, what may happen to some of th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65400" y="4460760"/>
            <a:ext cx="7274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swers: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s a Gas (g) or a Precipitate (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reform reactants (Reverse Rea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optimuspri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895480"/>
            <a:ext cx="185256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Line 8"/>
          <p:cNvSpPr/>
          <p:nvPr/>
        </p:nvSpPr>
        <p:spPr>
          <a:xfrm>
            <a:off x="63244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 reaction that does not go to completion is called a __________________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hat part of the equation shows if a reaction goes to completion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89400" y="3962520"/>
            <a:ext cx="694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swer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Reversi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Ar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double = reversible, single = comple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saturn_n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038480"/>
            <a:ext cx="23590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47:37Z</dcterms:created>
  <dc:creator>SFSD</dc:creator>
  <dc:description/>
  <dc:language>en-US</dc:language>
  <cp:lastModifiedBy>MO043</cp:lastModifiedBy>
  <dcterms:modified xsi:type="dcterms:W3CDTF">2011-04-19T15:41:34Z</dcterms:modified>
  <cp:revision>65</cp:revision>
  <dc:subject/>
  <dc:title>UNIT 12 REVIEW</dc:title>
</cp:coreProperties>
</file>